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019925" cy="1066641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955-CA68-4F12-BC61-3F8B8623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0640" y="2489040"/>
            <a:ext cx="631980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640" y="6166800"/>
            <a:ext cx="631980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B4D-B13A-443E-8719-E93BBDC1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0640" y="248904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88840" y="248904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0640" y="616680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88840" y="616680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2DD-A4AE-425E-8E35-C743BDFE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0640" y="2489040"/>
            <a:ext cx="203472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87600" y="2489040"/>
            <a:ext cx="203472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24200" y="2489040"/>
            <a:ext cx="203472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0640" y="6166800"/>
            <a:ext cx="203472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87600" y="6166800"/>
            <a:ext cx="203472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624200" y="6166800"/>
            <a:ext cx="203472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8BC-0AE0-40CB-A347-D8D29A15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0640" y="2489040"/>
            <a:ext cx="6319800" cy="704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EAC-9CDC-478C-8621-05FB2F52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0640" y="2489040"/>
            <a:ext cx="6319800" cy="70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8B8-BA5D-44E8-B08D-261AC8A0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0640" y="2489040"/>
            <a:ext cx="3083760" cy="70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88840" y="2489040"/>
            <a:ext cx="3083760" cy="70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71F-8F8B-484F-8B03-DCCB26EB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BC6-D058-4962-8E55-AAC14F5E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640" y="426600"/>
            <a:ext cx="631980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7F0-C841-4696-89B3-94FD0EF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0640" y="248904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88840" y="2489040"/>
            <a:ext cx="3083760" cy="70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640" y="616680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655-7257-49F9-BC40-F4460FFB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0640" y="2489040"/>
            <a:ext cx="3083760" cy="70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88840" y="248904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88840" y="616680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6ED-D716-4193-9354-74952230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0640" y="248904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88840" y="2489040"/>
            <a:ext cx="308376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0640" y="6166800"/>
            <a:ext cx="6319800" cy="33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F13-C6B8-46EE-8F62-B9E9E88A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26600"/>
            <a:ext cx="6319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2489040"/>
            <a:ext cx="6319800" cy="704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000" y="9715680"/>
            <a:ext cx="163800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98680" y="9715680"/>
            <a:ext cx="222408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32080" y="9715680"/>
            <a:ext cx="16383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FA05-716B-40C6-969E-EA6F8D6692B0}" type="slidenum">
              <a:rPr b="0" lang="fr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170000" y="3773520"/>
            <a:ext cx="468000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28.png"/><Relationship Id="rId8" Type="http://schemas.openxmlformats.org/officeDocument/2006/relationships/image" Target="../media/image27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4.png"/><Relationship Id="rId4" Type="http://schemas.openxmlformats.org/officeDocument/2006/relationships/image" Target="../media/image29.png"/><Relationship Id="rId5" Type="http://schemas.openxmlformats.org/officeDocument/2006/relationships/image" Target="../media/image31.png"/><Relationship Id="rId6" Type="http://schemas.openxmlformats.org/officeDocument/2006/relationships/image" Target="../media/image35.png"/><Relationship Id="rId7" Type="http://schemas.openxmlformats.org/officeDocument/2006/relationships/image" Target="../media/image27.png"/><Relationship Id="rId8" Type="http://schemas.openxmlformats.org/officeDocument/2006/relationships/image" Target="../media/image36.png"/><Relationship Id="rId9" Type="http://schemas.openxmlformats.org/officeDocument/2006/relationships/image" Target="../media/image27.png"/><Relationship Id="rId10" Type="http://schemas.openxmlformats.org/officeDocument/2006/relationships/image" Target="../media/image35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image" Target="../media/image38.png"/><Relationship Id="rId5" Type="http://schemas.openxmlformats.org/officeDocument/2006/relationships/image" Target="../media/image29.png"/><Relationship Id="rId6" Type="http://schemas.openxmlformats.org/officeDocument/2006/relationships/image" Target="../media/image31.png"/><Relationship Id="rId7" Type="http://schemas.openxmlformats.org/officeDocument/2006/relationships/image" Target="../media/image27.png"/><Relationship Id="rId8" Type="http://schemas.openxmlformats.org/officeDocument/2006/relationships/image" Target="../media/image39.png"/><Relationship Id="rId9" Type="http://schemas.openxmlformats.org/officeDocument/2006/relationships/image" Target="../media/image35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1571760"/>
            <a:ext cx="5943600" cy="105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3200" spc="-1" strike="noStrike">
                <a:solidFill>
                  <a:srgbClr val="5f5f5f"/>
                </a:solidFill>
                <a:latin typeface="Verdana"/>
              </a:rPr>
              <a:t>BEZTŘÍSKOVÁ</a:t>
            </a:r>
            <a:r>
              <a:rPr b="1" lang="fr-FR" sz="3200" spc="-1" strike="noStrike">
                <a:solidFill>
                  <a:srgbClr val="5f5f5f"/>
                </a:solidFill>
                <a:latin typeface="Verdana"/>
              </a:rPr>
              <a:t> ALTERNATIV</a:t>
            </a:r>
            <a:r>
              <a:rPr b="1" lang="cs-CZ" sz="3200" spc="-1" strike="noStrike">
                <a:solidFill>
                  <a:srgbClr val="5f5f5f"/>
                </a:solidFill>
                <a:latin typeface="Verdana"/>
              </a:rPr>
              <a:t>A</a:t>
            </a:r>
            <a:br>
              <a:rPr sz="3200"/>
            </a:br>
            <a:r>
              <a:rPr b="1" lang="cs-CZ" sz="3200" spc="-1" strike="noStrike">
                <a:solidFill>
                  <a:srgbClr val="5f5f5f"/>
                </a:solidFill>
                <a:latin typeface="Verdana"/>
              </a:rPr>
              <a:t>(TVÁŘ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3417840"/>
            <a:ext cx="5830920" cy="37242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20800" y="8050320"/>
            <a:ext cx="3595680" cy="11113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317520" y="239760"/>
            <a:ext cx="6342120" cy="10082160"/>
            <a:chOff x="317520" y="239760"/>
            <a:chExt cx="6342120" cy="10082160"/>
          </a:xfrm>
        </p:grpSpPr>
        <p:sp>
          <p:nvSpPr>
            <p:cNvPr id="46" name=""/>
            <p:cNvSpPr/>
            <p:nvPr/>
          </p:nvSpPr>
          <p:spPr>
            <a:xfrm>
              <a:off x="417600" y="700200"/>
              <a:ext cx="6242040" cy="9621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3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317520" y="239760"/>
              <a:ext cx="318132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VÝROBNÍ P</a:t>
            </a: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06320" y="1501920"/>
            <a:ext cx="5773680" cy="1017360"/>
            <a:chOff x="706320" y="1501920"/>
            <a:chExt cx="5773680" cy="1017360"/>
          </a:xfrm>
        </p:grpSpPr>
        <p:sp>
          <p:nvSpPr>
            <p:cNvPr id="232" name=""/>
            <p:cNvSpPr/>
            <p:nvPr/>
          </p:nvSpPr>
          <p:spPr>
            <a:xfrm>
              <a:off x="1679400" y="1501920"/>
              <a:ext cx="4800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fr-FR" sz="2000" spc="-1" strike="noStrike">
                  <a:solidFill>
                    <a:srgbClr val="5f5f5f"/>
                  </a:solidFill>
                  <a:latin typeface="Verdana"/>
                </a:rPr>
                <a:t>FP380CN – FP480CN</a:t>
              </a:r>
              <a:r>
                <a:rPr b="1" lang="fr-FR" sz="20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1670040" y="1849320"/>
              <a:ext cx="342108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706320" y="1544760"/>
              <a:ext cx="946440" cy="97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"/>
          <p:cNvGrpSpPr/>
          <p:nvPr/>
        </p:nvGrpSpPr>
        <p:grpSpPr>
          <a:xfrm>
            <a:off x="704880" y="4711680"/>
            <a:ext cx="5688000" cy="974880"/>
            <a:chOff x="704880" y="4711680"/>
            <a:chExt cx="5688000" cy="974880"/>
          </a:xfrm>
        </p:grpSpPr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704880" y="4711680"/>
              <a:ext cx="94608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725480" y="498636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ovlak z nitridu chró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08120" y="8139240"/>
            <a:ext cx="5684760" cy="974520"/>
            <a:chOff x="708120" y="8139240"/>
            <a:chExt cx="5684760" cy="974520"/>
          </a:xfrm>
        </p:grpSpPr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708120" y="8139240"/>
              <a:ext cx="94608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725480" y="840096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růchozí a slepé otvory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 &gt;2</a:t>
              </a: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5 x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1360" y="2597040"/>
            <a:ext cx="5678280" cy="974880"/>
            <a:chOff x="711360" y="2597040"/>
            <a:chExt cx="5678280" cy="974880"/>
          </a:xfrm>
        </p:grpSpPr>
        <p:sp>
          <p:nvSpPr>
            <p:cNvPr id="242" name=""/>
            <p:cNvSpPr/>
            <p:nvPr/>
          </p:nvSpPr>
          <p:spPr>
            <a:xfrm>
              <a:off x="1722600" y="2868480"/>
              <a:ext cx="4667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Bez mazacích dráže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5"/>
            <a:stretch/>
          </p:blipFill>
          <p:spPr>
            <a:xfrm>
              <a:off x="711360" y="2597040"/>
              <a:ext cx="946080" cy="9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"/>
          <p:cNvGrpSpPr/>
          <p:nvPr/>
        </p:nvGrpSpPr>
        <p:grpSpPr>
          <a:xfrm>
            <a:off x="717480" y="7110360"/>
            <a:ext cx="5673960" cy="974880"/>
            <a:chOff x="717480" y="7110360"/>
            <a:chExt cx="5673960" cy="974880"/>
          </a:xfrm>
        </p:grpSpPr>
        <p:sp>
          <p:nvSpPr>
            <p:cNvPr id="245" name=""/>
            <p:cNvSpPr/>
            <p:nvPr/>
          </p:nvSpPr>
          <p:spPr>
            <a:xfrm>
              <a:off x="1724040" y="737064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S mazacími drážk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6"/>
            <a:stretch/>
          </p:blipFill>
          <p:spPr>
            <a:xfrm>
              <a:off x="717480" y="7110360"/>
              <a:ext cx="946080" cy="9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706320" y="9213840"/>
            <a:ext cx="5688000" cy="974880"/>
            <a:chOff x="706320" y="9213840"/>
            <a:chExt cx="5688000" cy="974880"/>
          </a:xfrm>
        </p:grpSpPr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706320" y="9213840"/>
              <a:ext cx="9464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727280" y="9488520"/>
              <a:ext cx="4667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ovlak z nitridu chró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08120" y="6004080"/>
            <a:ext cx="5773680" cy="1017000"/>
            <a:chOff x="708120" y="6004080"/>
            <a:chExt cx="5773680" cy="1017000"/>
          </a:xfrm>
        </p:grpSpPr>
        <p:sp>
          <p:nvSpPr>
            <p:cNvPr id="251" name=""/>
            <p:cNvSpPr/>
            <p:nvPr/>
          </p:nvSpPr>
          <p:spPr>
            <a:xfrm>
              <a:off x="1681200" y="6004080"/>
              <a:ext cx="4800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fr-FR" sz="2000" spc="-1" strike="noStrike">
                  <a:solidFill>
                    <a:srgbClr val="5f5f5f"/>
                  </a:solidFill>
                  <a:latin typeface="Verdana"/>
                </a:rPr>
                <a:t>FP381CN – FP481CN</a:t>
              </a:r>
              <a:r>
                <a:rPr b="1" lang="fr-FR" sz="20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708120" y="6046920"/>
              <a:ext cx="946080" cy="97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1657440" y="6372360"/>
              <a:ext cx="3421080" cy="54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704880" y="3639960"/>
            <a:ext cx="5686560" cy="974880"/>
            <a:chOff x="704880" y="3639960"/>
            <a:chExt cx="5686560" cy="974880"/>
          </a:xfrm>
        </p:grpSpPr>
        <p:sp>
          <p:nvSpPr>
            <p:cNvPr id="255" name=""/>
            <p:cNvSpPr/>
            <p:nvPr/>
          </p:nvSpPr>
          <p:spPr>
            <a:xfrm>
              <a:off x="1724040" y="389880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růchozí a slepé otvory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, &lt;2</a:t>
              </a: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5 x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0"/>
            <a:stretch/>
          </p:blipFill>
          <p:spPr>
            <a:xfrm>
              <a:off x="704880" y="3639960"/>
              <a:ext cx="946080" cy="9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258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259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1" name="" descr=""/>
            <p:cNvPicPr/>
            <p:nvPr/>
          </p:nvPicPr>
          <p:blipFill>
            <a:blip r:embed="rId12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VÝROBNÍ P</a:t>
            </a: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17480" y="6486480"/>
            <a:ext cx="5673960" cy="974880"/>
            <a:chOff x="717480" y="6486480"/>
            <a:chExt cx="5673960" cy="974880"/>
          </a:xfrm>
        </p:grpSpPr>
        <p:sp>
          <p:nvSpPr>
            <p:cNvPr id="264" name=""/>
            <p:cNvSpPr/>
            <p:nvPr/>
          </p:nvSpPr>
          <p:spPr>
            <a:xfrm>
              <a:off x="1724040" y="674676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S mazacími drážk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717480" y="6486480"/>
              <a:ext cx="946080" cy="9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722160" y="7429680"/>
            <a:ext cx="5685120" cy="974520"/>
            <a:chOff x="722160" y="7429680"/>
            <a:chExt cx="5685120" cy="974520"/>
          </a:xfrm>
        </p:grpSpPr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722160" y="7429680"/>
              <a:ext cx="9464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1739880" y="769140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růchozí a slepé otvory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, &gt;2</a:t>
              </a: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5 x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657440" y="1876320"/>
            <a:ext cx="3421080" cy="54144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709560" y="3459240"/>
            <a:ext cx="5684760" cy="974520"/>
            <a:chOff x="709560" y="3459240"/>
            <a:chExt cx="5684760" cy="974520"/>
          </a:xfrm>
        </p:grpSpPr>
        <p:pic>
          <p:nvPicPr>
            <p:cNvPr id="271" name="" descr=""/>
            <p:cNvPicPr/>
            <p:nvPr/>
          </p:nvPicPr>
          <p:blipFill>
            <a:blip r:embed="rId4"/>
            <a:stretch/>
          </p:blipFill>
          <p:spPr>
            <a:xfrm>
              <a:off x="709560" y="3459240"/>
              <a:ext cx="94608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727280" y="3720960"/>
              <a:ext cx="4667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růchozí a slepé otvory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, &gt;2</a:t>
              </a: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5 x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14240" y="2498760"/>
            <a:ext cx="5673960" cy="974520"/>
            <a:chOff x="714240" y="2498760"/>
            <a:chExt cx="5673960" cy="974520"/>
          </a:xfrm>
        </p:grpSpPr>
        <p:sp>
          <p:nvSpPr>
            <p:cNvPr id="274" name=""/>
            <p:cNvSpPr/>
            <p:nvPr/>
          </p:nvSpPr>
          <p:spPr>
            <a:xfrm>
              <a:off x="1720800" y="275904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S mazacími drážk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5"/>
            <a:stretch/>
          </p:blipFill>
          <p:spPr>
            <a:xfrm>
              <a:off x="714240" y="2498760"/>
              <a:ext cx="946440" cy="97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706320" y="4392720"/>
            <a:ext cx="5686560" cy="974520"/>
            <a:chOff x="706320" y="4392720"/>
            <a:chExt cx="5686560" cy="974520"/>
          </a:xfrm>
        </p:grpSpPr>
        <p:sp>
          <p:nvSpPr>
            <p:cNvPr id="277" name=""/>
            <p:cNvSpPr/>
            <p:nvPr/>
          </p:nvSpPr>
          <p:spPr>
            <a:xfrm>
              <a:off x="1725480" y="467676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Ochranná vrstva proti opotřebení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 DC « V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706320" y="4392720"/>
              <a:ext cx="946440" cy="97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708120" y="5479920"/>
            <a:ext cx="5773680" cy="1017720"/>
            <a:chOff x="708120" y="5479920"/>
            <a:chExt cx="5773680" cy="1017720"/>
          </a:xfrm>
        </p:grpSpPr>
        <p:sp>
          <p:nvSpPr>
            <p:cNvPr id="280" name=""/>
            <p:cNvSpPr/>
            <p:nvPr/>
          </p:nvSpPr>
          <p:spPr>
            <a:xfrm>
              <a:off x="1681200" y="5479920"/>
              <a:ext cx="4800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fr-FR" sz="2000" spc="-1" strike="noStrike">
                  <a:solidFill>
                    <a:srgbClr val="5f5f5f"/>
                  </a:solidFill>
                  <a:latin typeface="Verdana"/>
                </a:rPr>
                <a:t>FP384VS – FP484VS</a:t>
              </a:r>
              <a:r>
                <a:rPr b="1" lang="fr-FR" sz="20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7"/>
            <a:stretch/>
          </p:blipFill>
          <p:spPr>
            <a:xfrm>
              <a:off x="708120" y="5522760"/>
              <a:ext cx="94608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8"/>
            <a:stretch/>
          </p:blipFill>
          <p:spPr>
            <a:xfrm>
              <a:off x="1693800" y="5781600"/>
              <a:ext cx="348948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1679400" y="1492200"/>
            <a:ext cx="48006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Verdana"/>
              </a:rPr>
              <a:t>FP381VS – FP481VS</a:t>
            </a:r>
            <a:r>
              <a:rPr b="1" lang="fr-FR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706320" y="1535040"/>
            <a:ext cx="946440" cy="97488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722160" y="9337680"/>
            <a:ext cx="5686560" cy="974880"/>
            <a:chOff x="722160" y="9337680"/>
            <a:chExt cx="5686560" cy="974880"/>
          </a:xfrm>
        </p:grpSpPr>
        <p:sp>
          <p:nvSpPr>
            <p:cNvPr id="286" name=""/>
            <p:cNvSpPr/>
            <p:nvPr/>
          </p:nvSpPr>
          <p:spPr>
            <a:xfrm>
              <a:off x="1741320" y="962172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Ochranná vrstva proti opotřebení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 DC « V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0"/>
            <a:stretch/>
          </p:blipFill>
          <p:spPr>
            <a:xfrm>
              <a:off x="722160" y="9337680"/>
              <a:ext cx="946440" cy="9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289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290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2" name="" descr=""/>
            <p:cNvPicPr/>
            <p:nvPr/>
          </p:nvPicPr>
          <p:blipFill>
            <a:blip r:embed="rId12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720720" y="8394840"/>
            <a:ext cx="5688000" cy="974520"/>
            <a:chOff x="720720" y="8394840"/>
            <a:chExt cx="5688000" cy="974520"/>
          </a:xfrm>
        </p:grpSpPr>
        <p:pic>
          <p:nvPicPr>
            <p:cNvPr id="294" name="" descr=""/>
            <p:cNvPicPr/>
            <p:nvPr/>
          </p:nvPicPr>
          <p:blipFill>
            <a:blip r:embed="rId13"/>
            <a:stretch/>
          </p:blipFill>
          <p:spPr>
            <a:xfrm>
              <a:off x="720720" y="8394840"/>
              <a:ext cx="94608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741320" y="865332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Vnitřní chlazení s bočním výstup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VÝROBNÍ P</a:t>
            </a: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79400" y="1501920"/>
            <a:ext cx="48006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2000" spc="-1" strike="noStrike">
                <a:solidFill>
                  <a:srgbClr val="666699"/>
                </a:solidFill>
                <a:latin typeface="Verdana"/>
              </a:rPr>
              <a:t>FA381 – FA481</a:t>
            </a:r>
            <a:r>
              <a:rPr b="1" lang="fr-FR" sz="20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08120" y="7424640"/>
            <a:ext cx="5684760" cy="974880"/>
            <a:chOff x="708120" y="7424640"/>
            <a:chExt cx="5684760" cy="97488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708120" y="7424640"/>
              <a:ext cx="94608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725480" y="768672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růchozí a slepé otvory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 &gt;2</a:t>
              </a: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5 x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06320" y="1544760"/>
            <a:ext cx="946440" cy="974520"/>
          </a:xfrm>
          <a:prstGeom prst="rect">
            <a:avLst/>
          </a:prstGeom>
          <a:ln w="0">
            <a:noFill/>
          </a:ln>
        </p:spPr>
      </p:pic>
      <p:grpSp>
        <p:nvGrpSpPr>
          <p:cNvPr id="302" name=""/>
          <p:cNvGrpSpPr/>
          <p:nvPr/>
        </p:nvGrpSpPr>
        <p:grpSpPr>
          <a:xfrm>
            <a:off x="717480" y="6396120"/>
            <a:ext cx="5673960" cy="974520"/>
            <a:chOff x="717480" y="6396120"/>
            <a:chExt cx="5673960" cy="974520"/>
          </a:xfrm>
        </p:grpSpPr>
        <p:sp>
          <p:nvSpPr>
            <p:cNvPr id="303" name=""/>
            <p:cNvSpPr/>
            <p:nvPr/>
          </p:nvSpPr>
          <p:spPr>
            <a:xfrm>
              <a:off x="1724040" y="665640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S mazacími drážk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717480" y="6396120"/>
              <a:ext cx="946080" cy="97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1684440" y="1884240"/>
            <a:ext cx="3421080" cy="54144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709560" y="3654360"/>
            <a:ext cx="5684760" cy="974880"/>
            <a:chOff x="709560" y="3654360"/>
            <a:chExt cx="5684760" cy="974880"/>
          </a:xfrm>
        </p:grpSpPr>
        <p:pic>
          <p:nvPicPr>
            <p:cNvPr id="307" name="" descr=""/>
            <p:cNvPicPr/>
            <p:nvPr/>
          </p:nvPicPr>
          <p:blipFill>
            <a:blip r:embed="rId5"/>
            <a:stretch/>
          </p:blipFill>
          <p:spPr>
            <a:xfrm>
              <a:off x="709560" y="3654360"/>
              <a:ext cx="94608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27280" y="3916440"/>
              <a:ext cx="4667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růchozí a slepé otvory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, &gt;2</a:t>
              </a: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,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5 x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19280" y="2625840"/>
            <a:ext cx="5673600" cy="974520"/>
            <a:chOff x="719280" y="2625840"/>
            <a:chExt cx="5673600" cy="974520"/>
          </a:xfrm>
        </p:grpSpPr>
        <p:sp>
          <p:nvSpPr>
            <p:cNvPr id="310" name=""/>
            <p:cNvSpPr/>
            <p:nvPr/>
          </p:nvSpPr>
          <p:spPr>
            <a:xfrm>
              <a:off x="1725480" y="288612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S mazacími drážk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6"/>
            <a:stretch/>
          </p:blipFill>
          <p:spPr>
            <a:xfrm>
              <a:off x="719280" y="2625840"/>
              <a:ext cx="946080" cy="97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708120" y="5289480"/>
            <a:ext cx="5773680" cy="1017720"/>
            <a:chOff x="708120" y="5289480"/>
            <a:chExt cx="5773680" cy="1017720"/>
          </a:xfrm>
        </p:grpSpPr>
        <p:sp>
          <p:nvSpPr>
            <p:cNvPr id="313" name=""/>
            <p:cNvSpPr/>
            <p:nvPr/>
          </p:nvSpPr>
          <p:spPr>
            <a:xfrm>
              <a:off x="1681200" y="5289480"/>
              <a:ext cx="4800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fr-FR" sz="2000" spc="-1" strike="noStrike">
                  <a:solidFill>
                    <a:srgbClr val="666699"/>
                  </a:solidFill>
                  <a:latin typeface="Verdana"/>
                </a:rPr>
                <a:t>FA381VS – FA481VS</a:t>
              </a:r>
              <a:r>
                <a:rPr b="1" lang="fr-FR" sz="2000" spc="-1" strike="noStrike">
                  <a:solidFill>
                    <a:srgbClr val="333399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7"/>
            <a:stretch/>
          </p:blipFill>
          <p:spPr>
            <a:xfrm>
              <a:off x="708120" y="5332320"/>
              <a:ext cx="94608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8"/>
            <a:stretch/>
          </p:blipFill>
          <p:spPr>
            <a:xfrm>
              <a:off x="1671480" y="5672160"/>
              <a:ext cx="342108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"/>
          <p:cNvGrpSpPr/>
          <p:nvPr/>
        </p:nvGrpSpPr>
        <p:grpSpPr>
          <a:xfrm>
            <a:off x="706320" y="8474040"/>
            <a:ext cx="5686560" cy="974880"/>
            <a:chOff x="706320" y="8474040"/>
            <a:chExt cx="5686560" cy="974880"/>
          </a:xfrm>
        </p:grpSpPr>
        <p:sp>
          <p:nvSpPr>
            <p:cNvPr id="317" name=""/>
            <p:cNvSpPr/>
            <p:nvPr/>
          </p:nvSpPr>
          <p:spPr>
            <a:xfrm>
              <a:off x="1725480" y="8758080"/>
              <a:ext cx="46674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Ochranná vrstva proti opotřebení 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DC « V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9"/>
            <a:stretch/>
          </p:blipFill>
          <p:spPr>
            <a:xfrm>
              <a:off x="706320" y="8474040"/>
              <a:ext cx="946440" cy="97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320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321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3" name="" descr=""/>
            <p:cNvPicPr/>
            <p:nvPr/>
          </p:nvPicPr>
          <p:blipFill>
            <a:blip r:embed="rId11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66720" y="1311120"/>
            <a:ext cx="591984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ato metoda beztřískového obrábění byla původně vyvinuta pro výrobu velkých počtů krátkých závitů do plechů. Díky různým povlakům však je dnešní rozsah použití tvářecích závitníků podstatně větš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4120" y="2352600"/>
            <a:ext cx="5581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V</a:t>
            </a: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ÝH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19280" y="2811600"/>
            <a:ext cx="5825880" cy="866520"/>
            <a:chOff x="719280" y="2811600"/>
            <a:chExt cx="5825880" cy="866520"/>
          </a:xfrm>
        </p:grpSpPr>
        <p:sp>
          <p:nvSpPr>
            <p:cNvPr id="51" name=""/>
            <p:cNvSpPr/>
            <p:nvPr/>
          </p:nvSpPr>
          <p:spPr>
            <a:xfrm>
              <a:off x="1595520" y="3030480"/>
              <a:ext cx="49496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Žádné třísk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719280" y="2811600"/>
              <a:ext cx="866520" cy="86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720720" y="3670200"/>
            <a:ext cx="5873760" cy="866880"/>
            <a:chOff x="720720" y="3670200"/>
            <a:chExt cx="5873760" cy="866880"/>
          </a:xfrm>
        </p:grpSpPr>
        <p:sp>
          <p:nvSpPr>
            <p:cNvPr id="54" name=""/>
            <p:cNvSpPr/>
            <p:nvPr/>
          </p:nvSpPr>
          <p:spPr>
            <a:xfrm>
              <a:off x="1596960" y="3889440"/>
              <a:ext cx="49975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ro výrobu průchozích i slepých dě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720720" y="3670200"/>
              <a:ext cx="866880" cy="86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722160" y="4529160"/>
            <a:ext cx="5873760" cy="866880"/>
            <a:chOff x="722160" y="4529160"/>
            <a:chExt cx="5873760" cy="866880"/>
          </a:xfrm>
        </p:grpSpPr>
        <p:sp>
          <p:nvSpPr>
            <p:cNvPr id="57" name=""/>
            <p:cNvSpPr/>
            <p:nvPr/>
          </p:nvSpPr>
          <p:spPr>
            <a:xfrm>
              <a:off x="1598760" y="4748400"/>
              <a:ext cx="49971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Velmi vysoké životnosti</a:t>
              </a: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722160" y="4529160"/>
              <a:ext cx="866880" cy="86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723960" y="5388120"/>
            <a:ext cx="5873760" cy="866520"/>
            <a:chOff x="723960" y="5388120"/>
            <a:chExt cx="5873760" cy="866520"/>
          </a:xfrm>
        </p:grpSpPr>
        <p:sp>
          <p:nvSpPr>
            <p:cNvPr id="60" name=""/>
            <p:cNvSpPr/>
            <p:nvPr/>
          </p:nvSpPr>
          <p:spPr>
            <a:xfrm>
              <a:off x="1600200" y="5607000"/>
              <a:ext cx="49975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Vyšší odolnost proti vylomení nástro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723960" y="5388120"/>
              <a:ext cx="866880" cy="86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725400" y="6246720"/>
            <a:ext cx="5873760" cy="866880"/>
            <a:chOff x="725400" y="6246720"/>
            <a:chExt cx="5873760" cy="866880"/>
          </a:xfrm>
        </p:grpSpPr>
        <p:sp>
          <p:nvSpPr>
            <p:cNvPr id="63" name=""/>
            <p:cNvSpPr/>
            <p:nvPr/>
          </p:nvSpPr>
          <p:spPr>
            <a:xfrm>
              <a:off x="1601640" y="6365880"/>
              <a:ext cx="499752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Vyšší odolnost závitu při statickém a dynamickém zatížen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725400" y="6246720"/>
              <a:ext cx="866880" cy="8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641520" y="7226280"/>
            <a:ext cx="5581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OMEZENÍ POUŽIT</a:t>
            </a: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</a:t>
            </a: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L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19280" y="7675560"/>
            <a:ext cx="5827680" cy="866880"/>
            <a:chOff x="719280" y="7675560"/>
            <a:chExt cx="5827680" cy="866880"/>
          </a:xfrm>
        </p:grpSpPr>
        <p:sp>
          <p:nvSpPr>
            <p:cNvPr id="67" name=""/>
            <p:cNvSpPr/>
            <p:nvPr/>
          </p:nvSpPr>
          <p:spPr>
            <a:xfrm>
              <a:off x="1596960" y="7889760"/>
              <a:ext cx="49500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Vytvarování profilu závitu není kompletn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719280" y="7675560"/>
              <a:ext cx="866520" cy="8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VŠEOBEC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06320" y="8534520"/>
            <a:ext cx="5827680" cy="866520"/>
            <a:chOff x="706320" y="8534520"/>
            <a:chExt cx="5827680" cy="866520"/>
          </a:xfrm>
        </p:grpSpPr>
        <p:sp>
          <p:nvSpPr>
            <p:cNvPr id="71" name=""/>
            <p:cNvSpPr/>
            <p:nvPr/>
          </p:nvSpPr>
          <p:spPr>
            <a:xfrm>
              <a:off x="1584360" y="8748720"/>
              <a:ext cx="49496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Metoda není vhodná pro tenkostěnné obrobk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6320" y="8534520"/>
              <a:ext cx="866880" cy="86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708120" y="9407520"/>
            <a:ext cx="5827680" cy="866880"/>
            <a:chOff x="708120" y="9407520"/>
            <a:chExt cx="5827680" cy="866880"/>
          </a:xfrm>
        </p:grpSpPr>
        <p:sp>
          <p:nvSpPr>
            <p:cNvPr id="74" name=""/>
            <p:cNvSpPr/>
            <p:nvPr/>
          </p:nvSpPr>
          <p:spPr>
            <a:xfrm>
              <a:off x="1585800" y="9516960"/>
              <a:ext cx="49500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Dojde-li ke zlomení nástroje, je obtížné odstranit jeho zbytky z obrob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8"/>
            <a:stretch/>
          </p:blipFill>
          <p:spPr>
            <a:xfrm>
              <a:off x="708120" y="9407520"/>
              <a:ext cx="866520" cy="86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77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78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" descr=""/>
            <p:cNvPicPr/>
            <p:nvPr/>
          </p:nvPicPr>
          <p:blipFill>
            <a:blip r:embed="rId10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ZVLÁŠ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120" y="7238880"/>
            <a:ext cx="5581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POŽADA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27200" y="8945640"/>
            <a:ext cx="5908680" cy="1152360"/>
            <a:chOff x="727200" y="8945640"/>
            <a:chExt cx="5908680" cy="1152360"/>
          </a:xfrm>
        </p:grpSpPr>
        <p:sp>
          <p:nvSpPr>
            <p:cNvPr id="84" name=""/>
            <p:cNvSpPr/>
            <p:nvPr/>
          </p:nvSpPr>
          <p:spPr>
            <a:xfrm>
              <a:off x="1914480" y="9296280"/>
              <a:ext cx="4721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Vysoký krouticí mo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27200" y="8945640"/>
              <a:ext cx="1158840" cy="115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730080" y="1441440"/>
            <a:ext cx="5902560" cy="2612880"/>
            <a:chOff x="730080" y="1441440"/>
            <a:chExt cx="5902560" cy="2612880"/>
          </a:xfrm>
        </p:grpSpPr>
        <p:sp>
          <p:nvSpPr>
            <p:cNvPr id="87" name=""/>
            <p:cNvSpPr/>
            <p:nvPr/>
          </p:nvSpPr>
          <p:spPr>
            <a:xfrm>
              <a:off x="1911240" y="1706400"/>
              <a:ext cx="47214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Klasický záv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Verdana"/>
                </a:rPr>
                <a:t>Závitník, otevřený tv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730080" y="1441440"/>
              <a:ext cx="1151280" cy="26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1913040" y="3179880"/>
            <a:ext cx="4722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ávit je řezán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roto v materiálu neprobíhá žádná strukturní změ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27200" y="7701120"/>
            <a:ext cx="5906880" cy="1152360"/>
            <a:chOff x="727200" y="7701120"/>
            <a:chExt cx="5906880" cy="11523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727200" y="7701120"/>
              <a:ext cx="11588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913040" y="7951680"/>
              <a:ext cx="472104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Specifický, velmi přesný průměr předvrtaného otvor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914480" y="6039000"/>
            <a:ext cx="46623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Tato metoda způsobí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ozitivní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změnu ve struktuře materiá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44480" y="4311720"/>
            <a:ext cx="5889600" cy="2612880"/>
            <a:chOff x="744480" y="4311720"/>
            <a:chExt cx="5889600" cy="2612880"/>
          </a:xfrm>
        </p:grpSpPr>
        <p:sp>
          <p:nvSpPr>
            <p:cNvPr id="95" name=""/>
            <p:cNvSpPr/>
            <p:nvPr/>
          </p:nvSpPr>
          <p:spPr>
            <a:xfrm>
              <a:off x="1913040" y="4565520"/>
              <a:ext cx="47210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Tváření závit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Verdana"/>
                </a:rPr>
                <a:t>Tvářecí závitník, tvar uzavřeného mnohoúhelní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744480" y="4311720"/>
              <a:ext cx="1150920" cy="261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98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99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TVÁŘENÍ ZÁV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38760" y="2448000"/>
            <a:ext cx="26971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rofil tvářecího nástroje vniká do  materiálu, který se plasticky přetváří do volného prostoru mezi průměrem předvrtaného otvoru a malým průměrem závitu tvářecího závitní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6800" y="7122960"/>
            <a:ext cx="5823000" cy="1440000"/>
            <a:chOff x="766800" y="7122960"/>
            <a:chExt cx="5823000" cy="14400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766800" y="7122960"/>
              <a:ext cx="14479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219400" y="7296120"/>
              <a:ext cx="43704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Tvářecí závitníky </a:t>
              </a: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bez</a:t>
              </a: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mazacích dráž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Verdana"/>
                </a:rPr>
                <a:t>Vhodné pro obrábění měkkých materiálů a průchozích otvorů do plechů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39720" y="5819760"/>
            <a:ext cx="5913360" cy="845640"/>
            <a:chOff x="639720" y="5819760"/>
            <a:chExt cx="5913360" cy="845640"/>
          </a:xfrm>
        </p:grpSpPr>
        <p:sp>
          <p:nvSpPr>
            <p:cNvPr id="108" name=""/>
            <p:cNvSpPr/>
            <p:nvPr/>
          </p:nvSpPr>
          <p:spPr>
            <a:xfrm>
              <a:off x="639720" y="5819760"/>
              <a:ext cx="55818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2000" spc="-1" strike="noStrike">
                  <a:solidFill>
                    <a:srgbClr val="808080"/>
                  </a:solidFill>
                  <a:latin typeface="Verdana"/>
                </a:rPr>
                <a:t>MAZÁ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6720" y="6161040"/>
              <a:ext cx="58863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ři deformaci materiálu vznikají značné třecí síly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 Proto je třeba chránit nástroje jemnou vrstvou maziva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66800" y="8694720"/>
            <a:ext cx="5829120" cy="1440000"/>
            <a:chOff x="766800" y="8694720"/>
            <a:chExt cx="5829120" cy="14400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766800" y="8694720"/>
              <a:ext cx="14479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225520" y="8802720"/>
              <a:ext cx="4370400" cy="9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Tvářecí závitníky </a:t>
              </a: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s</a:t>
              </a:r>
              <a:r>
                <a:rPr b="1" lang="cs-CZ" sz="1600" spc="-1" strike="noStrike">
                  <a:solidFill>
                    <a:srgbClr val="000000"/>
                  </a:solidFill>
                  <a:latin typeface="Verdana"/>
                </a:rPr>
                <a:t> mazacími drážkami, od Ø 3 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Verdana"/>
                </a:rPr>
                <a:t>Tvářecí závitníky s mazacími drážkami jsou speciálně doporučovány pro hluboké slepé otvory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38360" y="1455840"/>
            <a:ext cx="3189240" cy="4052880"/>
            <a:chOff x="738360" y="1455840"/>
            <a:chExt cx="3189240" cy="405288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738360" y="1455840"/>
              <a:ext cx="318924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697120" y="4916520"/>
              <a:ext cx="122724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lý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 závit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4080" y="5129280"/>
              <a:ext cx="15019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 předvrtaného otvor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118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119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PŘEDVRTANÝ OT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54120" y="5138640"/>
            <a:ext cx="5898960" cy="848880"/>
            <a:chOff x="654120" y="5138640"/>
            <a:chExt cx="5898960" cy="848880"/>
          </a:xfrm>
        </p:grpSpPr>
        <p:sp>
          <p:nvSpPr>
            <p:cNvPr id="124" name=""/>
            <p:cNvSpPr/>
            <p:nvPr/>
          </p:nvSpPr>
          <p:spPr>
            <a:xfrm>
              <a:off x="654120" y="5138640"/>
              <a:ext cx="558144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2000" spc="-1" strike="noStrike">
                  <a:solidFill>
                    <a:srgbClr val="808080"/>
                  </a:solidFill>
                  <a:latin typeface="Verdana"/>
                </a:rPr>
                <a:t>KROUTICÍ MO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6720" y="5483160"/>
              <a:ext cx="58863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Verdana"/>
                </a:rPr>
                <a:t>Pro tváření závitů je zapotřebí krouticí moment, který je až dvakrát vyšší než při použití klasického závitníku</a:t>
              </a: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35120" y="3738600"/>
            <a:ext cx="5900760" cy="1082520"/>
            <a:chOff x="735120" y="3738600"/>
            <a:chExt cx="5900760" cy="10825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735120" y="3738600"/>
              <a:ext cx="108252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914480" y="3881520"/>
              <a:ext cx="47214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Nedostatečný prof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Verdana"/>
                </a:rPr>
                <a:t>Důsledek příliš velkého průměru předvrtaného otvo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33320" y="1441440"/>
            <a:ext cx="5899320" cy="1082520"/>
            <a:chOff x="733320" y="1441440"/>
            <a:chExt cx="5899320" cy="1082520"/>
          </a:xfrm>
        </p:grpSpPr>
        <p:sp>
          <p:nvSpPr>
            <p:cNvPr id="130" name=""/>
            <p:cNvSpPr/>
            <p:nvPr/>
          </p:nvSpPr>
          <p:spPr>
            <a:xfrm>
              <a:off x="1911240" y="1663560"/>
              <a:ext cx="47214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Správný p</a:t>
              </a:r>
              <a:r>
                <a:rPr b="1" lang="de-DE" sz="1600" spc="-1" strike="noStrike">
                  <a:solidFill>
                    <a:srgbClr val="ff0000"/>
                  </a:solidFill>
                  <a:latin typeface="Verdana"/>
                </a:rPr>
                <a:t>rof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Verdana"/>
                </a:rPr>
                <a:t>při předepsaném průměru předvrtaného otvo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733320" y="1441440"/>
              <a:ext cx="1082880" cy="10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133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134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692280" y="6378480"/>
            <a:ext cx="5578200" cy="3597480"/>
            <a:chOff x="692280" y="6378480"/>
            <a:chExt cx="5578200" cy="3597480"/>
          </a:xfrm>
        </p:grpSpPr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692280" y="6378480"/>
              <a:ext cx="5578200" cy="359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222720" y="6869160"/>
              <a:ext cx="227484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Verdana"/>
                </a:rPr>
                <a:t>Nárůst krouticího momentu podle průměru předvrtaného otvo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(M6 6H C45 1.0503</a:t>
              </a:r>
              <a:r>
                <a:rPr b="0" sz="14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95240" y="7311240"/>
              <a:ext cx="34632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Krouticí mo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25760" y="9523440"/>
              <a:ext cx="22748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 algn="ctr"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Průměr předvrtaného otv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31880" y="2590920"/>
            <a:ext cx="6003720" cy="1082520"/>
            <a:chOff x="731880" y="2590920"/>
            <a:chExt cx="6003720" cy="1082520"/>
          </a:xfrm>
        </p:grpSpPr>
        <p:sp>
          <p:nvSpPr>
            <p:cNvPr id="143" name=""/>
            <p:cNvSpPr/>
            <p:nvPr/>
          </p:nvSpPr>
          <p:spPr>
            <a:xfrm>
              <a:off x="1913040" y="2741760"/>
              <a:ext cx="482256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Příliš velký prof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Verdana"/>
                </a:rPr>
                <a:t>v důsledku příliš malého průměru předvrtaného otvo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731880" y="2590920"/>
              <a:ext cx="1106280" cy="108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DOPORU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2560" y="4235400"/>
            <a:ext cx="57405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Abrazivní materiály, které obvykle vykazují nízkou tažnost, vyžadují tvářecí závitníky se zaobleným a dokonale hladkým mnohoúhelníkem</a:t>
            </a:r>
            <a:r>
              <a:rPr b="1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33320" y="5802480"/>
            <a:ext cx="5724720" cy="1699920"/>
            <a:chOff x="733320" y="5802480"/>
            <a:chExt cx="5724720" cy="16999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33320" y="5826240"/>
              <a:ext cx="108288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887480" y="5802480"/>
              <a:ext cx="45705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Povlak </a:t>
              </a:r>
              <a:r>
                <a:rPr b="1" lang="de-DE" sz="1600" spc="-1" strike="noStrike">
                  <a:solidFill>
                    <a:srgbClr val="ff0000"/>
                  </a:solidFill>
                  <a:latin typeface="Verdana"/>
                </a:rPr>
                <a:t>FP-V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4360" y="1405080"/>
            <a:ext cx="5621040" cy="2392200"/>
            <a:chOff x="684360" y="1405080"/>
            <a:chExt cx="5621040" cy="2392200"/>
          </a:xfrm>
        </p:grpSpPr>
        <p:sp>
          <p:nvSpPr>
            <p:cNvPr id="151" name=""/>
            <p:cNvSpPr/>
            <p:nvPr/>
          </p:nvSpPr>
          <p:spPr>
            <a:xfrm>
              <a:off x="684360" y="1405080"/>
              <a:ext cx="38131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Verdana"/>
                </a:rPr>
                <a:t>FP – </a:t>
              </a: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Pasivní mnohoúhelní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730080" y="1817640"/>
              <a:ext cx="5575320" cy="19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955800" y="3835440"/>
            <a:ext cx="500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Verdana"/>
              </a:rPr>
              <a:t>Široké dotykové plo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87480" y="6178680"/>
            <a:ext cx="47433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vlak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V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poskytuje vysokou odolnost proti otěru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oto se hodí zejména pro tváření závitů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abrazivních materiálech s nízkou tažností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tavební oceli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hlíkové oceli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legované oceli, slitiny hliníku apod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20720" y="8097840"/>
            <a:ext cx="5724360" cy="1692360"/>
            <a:chOff x="720720" y="8097840"/>
            <a:chExt cx="5724360" cy="169236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720720" y="8097840"/>
              <a:ext cx="1082520" cy="169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"/>
            <p:cNvGrpSpPr/>
            <p:nvPr/>
          </p:nvGrpSpPr>
          <p:grpSpPr>
            <a:xfrm>
              <a:off x="1874880" y="8265960"/>
              <a:ext cx="4570200" cy="880560"/>
              <a:chOff x="1874880" y="8265960"/>
              <a:chExt cx="4570200" cy="880560"/>
            </a:xfrm>
          </p:grpSpPr>
          <p:sp>
            <p:nvSpPr>
              <p:cNvPr id="158" name=""/>
              <p:cNvSpPr/>
              <p:nvPr/>
            </p:nvSpPr>
            <p:spPr>
              <a:xfrm>
                <a:off x="1874880" y="8265960"/>
                <a:ext cx="457020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1" lang="cs-CZ" sz="1600" spc="-1" strike="noStrike">
                    <a:solidFill>
                      <a:srgbClr val="ff0000"/>
                    </a:solidFill>
                    <a:latin typeface="Verdana"/>
                  </a:rPr>
                  <a:t>Povlak </a:t>
                </a:r>
                <a:r>
                  <a:rPr b="1" lang="fr-FR" sz="1600" spc="-1" strike="noStrike">
                    <a:solidFill>
                      <a:srgbClr val="ff0000"/>
                    </a:solidFill>
                    <a:latin typeface="Verdana"/>
                  </a:rPr>
                  <a:t>FP-C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74880" y="8642160"/>
                <a:ext cx="455436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7760" rIns="77760" tIns="38880" bIns="388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42960"/>
                    <a:tab algn="l" pos="1285920"/>
                    <a:tab algn="l" pos="1928880"/>
                    <a:tab algn="l" pos="2571840"/>
                    <a:tab algn="l" pos="3214800"/>
                    <a:tab algn="l" pos="3857760"/>
                    <a:tab algn="l" pos="4500720"/>
                    <a:tab algn="l" pos="5143680"/>
                    <a:tab algn="l" pos="5786280"/>
                    <a:tab algn="l" pos="6429240"/>
                    <a:tab algn="l" pos="7072200"/>
                    <a:tab algn="l" pos="7715160"/>
                    <a:tab algn="l" pos="8358120"/>
                    <a:tab algn="l" pos="9001080"/>
                    <a:tab algn="l" pos="9644040"/>
                    <a:tab algn="l" pos="10287000"/>
                    <a:tab algn="l" pos="10929960"/>
                  </a:tabLst>
                </a:pPr>
                <a:r>
                  <a:rPr b="0" lang="cs-CZ" sz="1400" spc="-1" strike="noStrike">
                    <a:solidFill>
                      <a:srgbClr val="000000"/>
                    </a:solidFill>
                    <a:latin typeface="Verdana"/>
                  </a:rPr>
                  <a:t>Povlak 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Verdana"/>
                  </a:rPr>
                  <a:t>CrN </a:t>
                </a:r>
                <a:r>
                  <a:rPr b="0" lang="cs-CZ" sz="1400" spc="-1" strike="noStrike">
                    <a:solidFill>
                      <a:srgbClr val="000000"/>
                    </a:solidFill>
                    <a:latin typeface="Verdana"/>
                  </a:rPr>
                  <a:t>poskytuje vysokou odolnost proti oxidaci a korozi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Verdana"/>
                  </a:rPr>
                  <a:t>. </a:t>
                </a:r>
                <a:r>
                  <a:rPr b="0" lang="cs-CZ" sz="1400" spc="-1" strike="noStrike">
                    <a:solidFill>
                      <a:srgbClr val="000000"/>
                    </a:solidFill>
                    <a:latin typeface="Verdana"/>
                  </a:rPr>
                  <a:t>Je vhodný pro slitiny hliníku a mědi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Verdana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161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162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ROZSAH POUŽITÍ F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151080" y="2806560"/>
            <a:ext cx="3422880" cy="7237440"/>
            <a:chOff x="3151080" y="2806560"/>
            <a:chExt cx="3422880" cy="72374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151080" y="2806560"/>
              <a:ext cx="3422880" cy="723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76720" y="9524880"/>
              <a:ext cx="1631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m</a:t>
              </a:r>
              <a:r>
                <a:rPr b="1" lang="cs-CZ" sz="700" spc="-1" strike="noStrike">
                  <a:solidFill>
                    <a:srgbClr val="000000"/>
                  </a:solidFill>
                  <a:latin typeface="Arial"/>
                </a:rPr>
                <a:t>ální s řezným oleje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720" y="9823320"/>
              <a:ext cx="1879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700" spc="-1" strike="noStrike">
                  <a:solidFill>
                    <a:srgbClr val="000000"/>
                  </a:solidFill>
                  <a:latin typeface="Arial"/>
                </a:rPr>
                <a:t>Vhodný s řezným oleje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2560" y="9524880"/>
              <a:ext cx="1352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m</a:t>
              </a:r>
              <a:r>
                <a:rPr b="1" lang="cs-CZ" sz="700" spc="-1" strike="noStrike">
                  <a:solidFill>
                    <a:srgbClr val="000000"/>
                  </a:solidFill>
                  <a:latin typeface="Arial"/>
                </a:rPr>
                <a:t>ální s emulz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92560" y="9823320"/>
              <a:ext cx="147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700" spc="-1" strike="noStrike">
                  <a:solidFill>
                    <a:srgbClr val="000000"/>
                  </a:solidFill>
                  <a:latin typeface="Arial"/>
                </a:rPr>
                <a:t>Vhodný se emulz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34960" y="2790720"/>
            <a:ext cx="2521080" cy="6838920"/>
            <a:chOff x="534960" y="2790720"/>
            <a:chExt cx="2521080" cy="683892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534960" y="2790720"/>
              <a:ext cx="2521080" cy="68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831960" y="4002120"/>
              <a:ext cx="8539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de-DE" sz="600" spc="-1" strike="noStrike">
                  <a:solidFill>
                    <a:srgbClr val="000000"/>
                  </a:solidFill>
                  <a:latin typeface="Arial"/>
                </a:rPr>
                <a:t>Automat</a:t>
              </a: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ová oc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5132520"/>
              <a:ext cx="8542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Stavební oc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Cementační oc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6256440"/>
              <a:ext cx="8542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Uhlíkatá oc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1960" y="7380360"/>
              <a:ext cx="85392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Legovaná oc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5480" y="8516880"/>
              <a:ext cx="85392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Legovaná / zušlechtěná oc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33720" y="2865600"/>
              <a:ext cx="85392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Verdana"/>
                </a:rPr>
                <a:t>Ner. ocel s přísadou sí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27240" y="4008600"/>
              <a:ext cx="85392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Feriticko-martenzitická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0760" y="5126040"/>
              <a:ext cx="8542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Mosaz </a:t>
              </a:r>
              <a:br>
                <a:rPr sz="600"/>
              </a:b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(s dlouhou třískou</a:t>
              </a:r>
              <a:r>
                <a:rPr b="1" lang="de-DE" sz="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0760" y="6256440"/>
              <a:ext cx="8542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Nelegovaný </a:t>
              </a:r>
              <a:r>
                <a:rPr b="1" lang="de-DE" sz="6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720" y="7380360"/>
              <a:ext cx="85392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Legovaný </a:t>
              </a:r>
              <a:r>
                <a:rPr b="1" lang="de-DE" sz="600" spc="-1" strike="noStrike">
                  <a:solidFill>
                    <a:srgbClr val="000000"/>
                  </a:solidFill>
                  <a:latin typeface="Arial"/>
                </a:rPr>
                <a:t>Al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Si &lt;1.5%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27240" y="8510760"/>
              <a:ext cx="84780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Legovaný Al,  Si</a:t>
              </a:r>
              <a:r>
                <a:rPr b="1" lang="fr-FR" sz="600" spc="-1" strike="noStrike">
                  <a:solidFill>
                    <a:srgbClr val="000000"/>
                  </a:solidFill>
                  <a:latin typeface="Arial"/>
                </a:rPr>
                <a:t> &gt;1.5%-&lt;10%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66720" y="1411200"/>
            <a:ext cx="6056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ateriály s nízkou tažností, minimálně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10 %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a s pevností v tahu až 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1150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Pa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187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188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2560" y="4216320"/>
            <a:ext cx="583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ateriály s vysokou tažností vyžadují tvářecí závitník s ostrým a dokonale hladkým mnohoúhelníkem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DOPORUČENÍ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4360" y="1405080"/>
            <a:ext cx="5605200" cy="2392200"/>
            <a:chOff x="684360" y="1405080"/>
            <a:chExt cx="5605200" cy="239220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14240" y="1817640"/>
              <a:ext cx="557532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84360" y="1405080"/>
              <a:ext cx="38131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Verdana"/>
                </a:rPr>
                <a:t>FA – </a:t>
              </a:r>
              <a:r>
                <a:rPr b="1" lang="de-DE" sz="1600" spc="-1" strike="noStrike">
                  <a:solidFill>
                    <a:srgbClr val="ff0000"/>
                  </a:solidFill>
                  <a:latin typeface="Verdana"/>
                </a:rPr>
                <a:t>Aktiv</a:t>
              </a: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ní mnohoúhelní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955800" y="3835440"/>
            <a:ext cx="500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Verdana"/>
              </a:rPr>
              <a:t>Malé dotykové plo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20720" y="5796000"/>
            <a:ext cx="5737320" cy="1706400"/>
            <a:chOff x="720720" y="5796000"/>
            <a:chExt cx="5737320" cy="1706400"/>
          </a:xfrm>
        </p:grpSpPr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720720" y="5826240"/>
              <a:ext cx="1082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887480" y="5796000"/>
              <a:ext cx="45705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Verdana"/>
                </a:rPr>
                <a:t>Povlak</a:t>
              </a: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1600" spc="-1" strike="noStrike">
                  <a:solidFill>
                    <a:srgbClr val="ff0000"/>
                  </a:solidFill>
                  <a:latin typeface="Verdana"/>
                </a:rPr>
                <a:t>FA-V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887480" y="6178680"/>
            <a:ext cx="463068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vlak VS má mimořádné kluzné a mazací vlastnosti, které zabraňují vzniku studených svarů při tváření závitů v materiálech s vysokou tažností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rezavějící oceli, slitiny mědi apod.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202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203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3170160" y="2876400"/>
            <a:ext cx="3422880" cy="7237440"/>
            <a:chOff x="3170160" y="2876400"/>
            <a:chExt cx="3422880" cy="72374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3170160" y="2876400"/>
              <a:ext cx="3422880" cy="723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76720" y="9601200"/>
              <a:ext cx="1631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m</a:t>
              </a:r>
              <a:r>
                <a:rPr b="1" lang="cs-CZ" sz="700" spc="-1" strike="noStrike">
                  <a:solidFill>
                    <a:srgbClr val="000000"/>
                  </a:solidFill>
                  <a:latin typeface="Arial"/>
                </a:rPr>
                <a:t>ální s řezným oleje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76720" y="9899640"/>
              <a:ext cx="1879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700" spc="-1" strike="noStrike">
                  <a:solidFill>
                    <a:srgbClr val="000000"/>
                  </a:solidFill>
                  <a:latin typeface="Arial"/>
                </a:rPr>
                <a:t>Vhodný s řezný oleje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92560" y="9601200"/>
              <a:ext cx="1352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m</a:t>
              </a:r>
              <a:r>
                <a:rPr b="1" lang="cs-CZ" sz="700" spc="-1" strike="noStrike">
                  <a:solidFill>
                    <a:srgbClr val="000000"/>
                  </a:solidFill>
                  <a:latin typeface="Arial"/>
                </a:rPr>
                <a:t>ální s emulz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92560" y="9899640"/>
              <a:ext cx="1479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700" spc="-1" strike="noStrike">
                  <a:solidFill>
                    <a:srgbClr val="000000"/>
                  </a:solidFill>
                  <a:latin typeface="Arial"/>
                </a:rPr>
                <a:t>Vhodný s emulz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20560" y="2871720"/>
            <a:ext cx="2521080" cy="5761080"/>
            <a:chOff x="520560" y="2871720"/>
            <a:chExt cx="2521080" cy="576108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520560" y="2871720"/>
              <a:ext cx="2521080" cy="57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831960" y="4078440"/>
              <a:ext cx="85392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Verdana"/>
                </a:rPr>
                <a:t>Ner. ocel s přísadou sí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8080" y="5208480"/>
              <a:ext cx="8542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Nerez. ocelAustenitická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6332400"/>
              <a:ext cx="8542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Ner. ocelFeriticko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martenzitická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1960" y="7456320"/>
              <a:ext cx="8539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Ner. ocel Feriticko-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martenzitická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33720" y="2941560"/>
              <a:ext cx="8539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Verdana"/>
                </a:rPr>
                <a:t>Čistý tit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27240" y="4084560"/>
              <a:ext cx="8539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Verdana"/>
                </a:rPr>
                <a:t>Slitina niklu 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20760" y="5202360"/>
              <a:ext cx="8542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Čistá měď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20760" y="6332400"/>
              <a:ext cx="8542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Mosaz ( s dlouhou třískou</a:t>
              </a:r>
              <a:r>
                <a:rPr b="1" lang="de-DE" sz="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33720" y="7456320"/>
              <a:ext cx="8539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spAutoFit/>
            </a:bodyPr>
            <a:p>
              <a:pPr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1" lang="de-DE" sz="600" spc="-1" strike="noStrike">
                  <a:solidFill>
                    <a:srgbClr val="000000"/>
                  </a:solidFill>
                  <a:latin typeface="Arial"/>
                </a:rPr>
                <a:t>Al </a:t>
              </a:r>
              <a:r>
                <a:rPr b="1" lang="cs-CZ" sz="600" spc="-1" strike="noStrike">
                  <a:solidFill>
                    <a:srgbClr val="000000"/>
                  </a:solidFill>
                  <a:latin typeface="Arial"/>
                </a:rPr>
                <a:t>nelegovaný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52320" y="965160"/>
            <a:ext cx="558180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2000" spc="-1" strike="noStrike">
                <a:solidFill>
                  <a:srgbClr val="808080"/>
                </a:solidFill>
                <a:latin typeface="Verdana"/>
              </a:rPr>
              <a:t>ROZSAH POUŽITÍ 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6720" y="1411200"/>
            <a:ext cx="57913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celi s vysokou tažností a neželezné kovy vhodné k tváře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17520" y="228600"/>
            <a:ext cx="6397560" cy="10093320"/>
            <a:chOff x="317520" y="228600"/>
            <a:chExt cx="6397560" cy="10093320"/>
          </a:xfrm>
        </p:grpSpPr>
        <p:grpSp>
          <p:nvGrpSpPr>
            <p:cNvPr id="226" name=""/>
            <p:cNvGrpSpPr/>
            <p:nvPr/>
          </p:nvGrpSpPr>
          <p:grpSpPr>
            <a:xfrm>
              <a:off x="317520" y="239760"/>
              <a:ext cx="6342120" cy="10082160"/>
              <a:chOff x="317520" y="239760"/>
              <a:chExt cx="6342120" cy="10082160"/>
            </a:xfrm>
          </p:grpSpPr>
          <p:sp>
            <p:nvSpPr>
              <p:cNvPr id="227" name=""/>
              <p:cNvSpPr/>
              <p:nvPr/>
            </p:nvSpPr>
            <p:spPr>
              <a:xfrm>
                <a:off x="417600" y="700200"/>
                <a:ext cx="6242040" cy="9621720"/>
              </a:xfrm>
              <a:prstGeom prst="rect">
                <a:avLst/>
              </a:prstGeom>
              <a:noFill/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7040" rIns="7704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73280"/>
                    <a:tab algn="l" pos="1546200"/>
                    <a:tab algn="l" pos="2319480"/>
                    <a:tab algn="l" pos="3092400"/>
                    <a:tab algn="l" pos="3865680"/>
                    <a:tab algn="l" pos="4638600"/>
                    <a:tab algn="l" pos="5411880"/>
                    <a:tab algn="l" pos="6184800"/>
                    <a:tab algn="l" pos="6958080"/>
                    <a:tab algn="l" pos="7731000"/>
                    <a:tab algn="l" pos="8504280"/>
                    <a:tab algn="l" pos="9277200"/>
                    <a:tab algn="l" pos="10050480"/>
                    <a:tab algn="l" pos="10823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520" y="239760"/>
                <a:ext cx="3181320" cy="66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5283360" y="228600"/>
              <a:ext cx="1431720" cy="442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6:23:11Z</dcterms:created>
  <dc:creator>Patrick Brüggimann</dc:creator>
  <dc:description/>
  <dc:language>en-US</dc:language>
  <cp:lastModifiedBy>Miloš Kotek</cp:lastModifiedBy>
  <dcterms:modified xsi:type="dcterms:W3CDTF">2004-04-21T14:14:37Z</dcterms:modified>
  <cp:revision>364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75113359</vt:r8>
  </property>
  <property fmtid="{D5CDD505-2E9C-101B-9397-08002B2CF9AE}" pid="3" name="_AuthorEmail">
    <vt:lpwstr>jan.heryan@tgs.cz</vt:lpwstr>
  </property>
  <property fmtid="{D5CDD505-2E9C-101B-9397-08002B2CF9AE}" pid="4" name="_AuthorEmailDisplayName">
    <vt:lpwstr>Jan Heryan</vt:lpwstr>
  </property>
  <property fmtid="{D5CDD505-2E9C-101B-9397-08002B2CF9AE}" pid="5" name="_EmailSubject">
    <vt:lpwstr>Prodejní akce DC pro internet</vt:lpwstr>
  </property>
  <property fmtid="{D5CDD505-2E9C-101B-9397-08002B2CF9AE}" pid="6" name="_PreviousAdHocReviewCycleID">
    <vt:r8>759649078</vt:r8>
  </property>
</Properties>
</file>